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AFB1-B349-4DB4-B683-A531C767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81F-9DC5-4ED7-8AE7-19A0B6FF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B92-425B-40F1-918B-9B4ABA25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23F-D1D0-414D-9F81-75ED5C72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34A0-E023-4E4C-AF6E-4B46334F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AC26-32CB-4DFE-B1FD-F8B529FB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BA3D-869C-42FE-A964-E0DBC6A7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2474-60D2-424C-B80D-D0481FA3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DC02-411D-4C95-A0C4-CB361186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AFFD-9F65-4D23-ABD1-8FB33932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562E-141B-4B1E-82A7-DB1CE3F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76C-A911-4059-96A4-F5F09DA6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368E-7191-4FAC-AAC1-B7C2389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5424-496F-4D55-A3A4-715F0AF8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31A3-DA88-4154-AA0B-ACFE8654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B443-A4D4-4540-92F2-DCAE62BF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005D-323F-4E65-B295-8A15B75C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0A3-E53D-47C6-8481-FA29FC6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A28-E894-49A3-8190-0AACA68E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35F-2C1D-4C66-A3B7-06501CB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5912-29A0-4B6A-8013-17AFEBAD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50B-520D-471B-81E5-224BD20A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CE9-3651-417B-BBFF-E64CDDA3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BB4-00B9-4126-85F7-09B4EDBB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680" cy="2269080"/>
                <a:chOff x="6274080" y="-21600"/>
                <a:chExt cx="286668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0840"/>
                  <a:chOff x="7834320" y="842760"/>
                  <a:chExt cx="106380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720" y="1602720"/>
                    <a:ext cx="4723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520"/>
                  <a:ext cx="1303920" cy="669240"/>
                  <a:chOff x="7836840" y="695520"/>
                  <a:chExt cx="130392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040"/>
                    <a:ext cx="8614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4040" y="1035720"/>
                    <a:ext cx="456840" cy="26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120"/>
                    <a:ext cx="4251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4120"/>
                    <a:ext cx="7203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880"/>
                  <a:chOff x="7845840" y="41976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480"/>
                    <a:ext cx="3398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760" y="905400"/>
                  <a:ext cx="1060200" cy="1142280"/>
                  <a:chOff x="6539760" y="905400"/>
                  <a:chExt cx="106020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760"/>
                    <a:ext cx="8798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720"/>
                    <a:ext cx="4716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4120"/>
                    <a:ext cx="720360" cy="10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120" cy="808920"/>
                  <a:chOff x="7287480" y="-21600"/>
                  <a:chExt cx="46512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0480"/>
                    <a:ext cx="2955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6800" cy="790560"/>
                  <a:chOff x="7666200" y="-10800"/>
                  <a:chExt cx="49680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5800" y="79560"/>
                    <a:ext cx="2937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4400" cy="1248480"/>
                  <a:chOff x="6710760" y="930240"/>
                  <a:chExt cx="91440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120" y="1258560"/>
                    <a:ext cx="890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62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7400" cy="1248120"/>
                  <a:chOff x="701532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8680" y="1310400"/>
                    <a:ext cx="8244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520" cy="1155600"/>
                  <a:chOff x="7733520" y="1058760"/>
                  <a:chExt cx="29052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0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480" y="1899000"/>
                    <a:ext cx="4078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600" y="1403280"/>
                    <a:ext cx="7412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640" y="1928160"/>
                    <a:ext cx="3970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B5EA-DAC0-4F42-BF84-71A1532FE2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7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0920"/>
                    <a:ext cx="2559960" cy="2740680"/>
                    <a:chOff x="5760360" y="23209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18960"/>
                      <a:ext cx="2128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760" y="41418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4160"/>
                    <a:ext cx="3040200" cy="2530800"/>
                    <a:chOff x="5787360" y="2144160"/>
                    <a:chExt cx="3040200" cy="25308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880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8160" cy="1994400"/>
                    <a:chOff x="5774760" y="2061000"/>
                    <a:chExt cx="3098160" cy="19944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400" cy="1004400"/>
                    <a:chOff x="5805720" y="1874880"/>
                    <a:chExt cx="293940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8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0860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0040"/>
                      <a:ext cx="1730880" cy="27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104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1040"/>
                    <a:ext cx="2557080" cy="2742480"/>
                    <a:chOff x="2646360" y="2471040"/>
                    <a:chExt cx="255708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83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3000"/>
                      <a:ext cx="11422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400" y="2364480"/>
                    <a:ext cx="3039840" cy="2532600"/>
                    <a:chOff x="2084400" y="2364480"/>
                    <a:chExt cx="3039840" cy="25326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7120"/>
                      <a:ext cx="223416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39480"/>
                      <a:ext cx="1199880" cy="67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9160"/>
                    <a:ext cx="3097080" cy="1992240"/>
                    <a:chOff x="2040120" y="22791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96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520" cy="1609200"/>
                    <a:chOff x="2010960" y="2185560"/>
                    <a:chExt cx="3134520" cy="16092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48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890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4840"/>
                    <a:ext cx="2937240" cy="1002600"/>
                    <a:chOff x="2167560" y="209484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084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920"/>
                      <a:ext cx="1023120" cy="60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35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8480"/>
                    <a:ext cx="2363760" cy="788760"/>
                    <a:chOff x="2760840" y="1518480"/>
                    <a:chExt cx="236376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7040"/>
                      <a:ext cx="8161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26560"/>
                    <a:ext cx="2170800" cy="1507320"/>
                    <a:chOff x="3160440" y="82656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180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560" cy="1829880"/>
                    <a:chOff x="3437280" y="434160"/>
                    <a:chExt cx="1987560" cy="18298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52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440"/>
                    <a:ext cx="1462680" cy="1893240"/>
                    <a:chOff x="4026960" y="325440"/>
                    <a:chExt cx="1462680" cy="18932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280" y="1440360"/>
                      <a:ext cx="1358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04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3920" cy="1947240"/>
                    <a:chOff x="4447800" y="245520"/>
                    <a:chExt cx="1123920" cy="194724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8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40280"/>
                      <a:ext cx="7034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360" y="947160"/>
                    <a:ext cx="2319840" cy="1113840"/>
                    <a:chOff x="5661360" y="947160"/>
                    <a:chExt cx="231984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18840"/>
                      <a:ext cx="151992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85040"/>
                      <a:ext cx="817560" cy="42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1400" cy="1452600"/>
                    <a:chOff x="5529600" y="61992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8200"/>
                    <a:ext cx="1191600" cy="1898280"/>
                    <a:chOff x="5358240" y="26820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4080"/>
                      <a:ext cx="130896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4560"/>
                      <a:ext cx="70344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2320"/>
                    <a:ext cx="1888920" cy="1796400"/>
                    <a:chOff x="5351040" y="382320"/>
                    <a:chExt cx="18889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960" y="1381680"/>
                      <a:ext cx="142560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8880"/>
                      <a:ext cx="76680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695680"/>
                    <a:ext cx="876600" cy="2931840"/>
                    <a:chOff x="4507200" y="2695680"/>
                    <a:chExt cx="876600" cy="29318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4560" y="3483360"/>
                      <a:ext cx="189108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000" y="4805640"/>
                      <a:ext cx="101268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200" y="2480400"/>
                    <a:ext cx="2280960" cy="2954520"/>
                    <a:chOff x="5677200" y="2480400"/>
                    <a:chExt cx="2280960" cy="29545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96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400"/>
                      <a:ext cx="113976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960" y="2591640"/>
                    <a:ext cx="1756800" cy="3031200"/>
                    <a:chOff x="564696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920" y="3394080"/>
                      <a:ext cx="203508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18880"/>
                      <a:ext cx="1089720" cy="57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240"/>
                    <a:ext cx="664920" cy="2717280"/>
                    <a:chOff x="4963680" y="2883240"/>
                    <a:chExt cx="66492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1560"/>
                      <a:ext cx="177408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520" y="4926600"/>
                      <a:ext cx="95040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40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72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780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84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72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980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E10-3196-4484-B3FD-5B9CC46A48C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United States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Highest Court in the United States of Ame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125px-Seal_of_the_United_States_Supreme_Court"/>
          <p:cNvPicPr/>
          <p:nvPr/>
        </p:nvPicPr>
        <p:blipFill>
          <a:blip r:embed="rId1"/>
          <a:stretch/>
        </p:blipFill>
        <p:spPr>
          <a:xfrm>
            <a:off x="6477120" y="14479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ecu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executive branch can refuse to enforce the ruling of the Supreme Court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st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re are nine justices on the Supreme Court. There is one chief justice and eight associate justic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rrent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Content Placeholder 3" descr="courtx-wide-community.jpg"/>
          <p:cNvPicPr/>
          <p:nvPr/>
        </p:nvPicPr>
        <p:blipFill>
          <a:blip r:embed="rId1"/>
          <a:stretch/>
        </p:blipFill>
        <p:spPr>
          <a:xfrm>
            <a:off x="1905120" y="22860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Chief Justice John Roberts (Appointed by President George W. Bush in 2005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4" descr="196px-Official_roberts_CJ"/>
          <p:cNvPicPr/>
          <p:nvPr/>
        </p:nvPicPr>
        <p:blipFill>
          <a:blip r:embed="rId1"/>
          <a:stretch/>
        </p:blipFill>
        <p:spPr>
          <a:xfrm>
            <a:off x="3200400" y="2819520"/>
            <a:ext cx="2489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onin Scalia (Appointed by President Reagan in 198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1" name="Picture 4" descr="194px-Antonin_Scalia%2C_SCOTUS_photo_portrait"/>
          <p:cNvPicPr/>
          <p:nvPr/>
        </p:nvPicPr>
        <p:blipFill>
          <a:blip r:embed="rId1"/>
          <a:stretch/>
        </p:blipFill>
        <p:spPr>
          <a:xfrm>
            <a:off x="3352680" y="228600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hony Kennedy (Appointed by President Reagan in 198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194px-Anthony_Kennedy_Official"/>
          <p:cNvPicPr/>
          <p:nvPr/>
        </p:nvPicPr>
        <p:blipFill>
          <a:blip r:embed="rId1"/>
          <a:stretch/>
        </p:blipFill>
        <p:spPr>
          <a:xfrm>
            <a:off x="327672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Clarence Thomas (Appointed by President George H.W. Bush in 1991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7" name="Picture 4" descr="194px-Clarence_Thomas_official"/>
          <p:cNvPicPr/>
          <p:nvPr/>
        </p:nvPicPr>
        <p:blipFill>
          <a:blip r:embed="rId1"/>
          <a:stretch/>
        </p:blipFill>
        <p:spPr>
          <a:xfrm>
            <a:off x="3048120" y="24382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Ruth Bader Ginsburg (Appointed by President Clinton in 199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0" name="Picture 4" descr="194px-Ruth_Bader_Ginsburg%2C_SCOTUS_photo_portrait"/>
          <p:cNvPicPr/>
          <p:nvPr/>
        </p:nvPicPr>
        <p:blipFill>
          <a:blip r:embed="rId1"/>
          <a:stretch/>
        </p:blipFill>
        <p:spPr>
          <a:xfrm>
            <a:off x="327672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tephen Breyer (Appointed by President Clinton in 1994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3" name="Picture 4" descr="194px-Stephen_Breyer%2C_SCOTUS_photo_portrait"/>
          <p:cNvPicPr/>
          <p:nvPr/>
        </p:nvPicPr>
        <p:blipFill>
          <a:blip r:embed="rId1"/>
          <a:stretch/>
        </p:blipFill>
        <p:spPr>
          <a:xfrm>
            <a:off x="320040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amuel Alito (Appointed by President George W. Bush in 200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194px-010_alito"/>
          <p:cNvPicPr/>
          <p:nvPr/>
        </p:nvPicPr>
        <p:blipFill>
          <a:blip r:embed="rId1"/>
          <a:stretch/>
        </p:blipFill>
        <p:spPr>
          <a:xfrm>
            <a:off x="320040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Judicial Bran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ticle III of the Constitution established the judicial branch of government headed by a national Supreme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mary function of the judicial branch is to interpret the Constitutionality of laws and other governmental ac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onia Sotomayor (Appointed by President Obama in 2009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8" name="Content Placeholder 4" descr="225px-Sonia_Sotomayor_in_SCOTUS_robe.jpg"/>
          <p:cNvPicPr/>
          <p:nvPr/>
        </p:nvPicPr>
        <p:blipFill>
          <a:blip r:embed="rId1"/>
          <a:stretch/>
        </p:blipFill>
        <p:spPr>
          <a:xfrm>
            <a:off x="2819520" y="2209680"/>
            <a:ext cx="243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Elena Kagan (Appointed by President Obama in 2010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Content Placeholder 3" descr="225px-Elena_Kagan_SCOTUS_portrait.jpg"/>
          <p:cNvPicPr/>
          <p:nvPr/>
        </p:nvPicPr>
        <p:blipFill>
          <a:blip r:embed="rId1"/>
          <a:stretch/>
        </p:blipFill>
        <p:spPr>
          <a:xfrm>
            <a:off x="2743200" y="1828800"/>
            <a:ext cx="28576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scellaneous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are appointed by the President and approved by the Senat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serve for lif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hief justice receives $217,400 per year while the associate justices receive $208,100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215388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has both original and appellate jurisdictio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is the final authority on the Constitution and the laws of the United State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0" y="20520"/>
            <a:ext cx="2143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upreme Court has original jurisdiction in cases involving ambassadors, maritime issues, cases where the United States is a party, cases between two or more states, etc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se cases are rarely heard by the Supreme Cour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llate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Supreme Court receives over 6000 appeals cases per year. The Supreme Court actually hears around 150 of these cas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Appeals C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 the Supreme Court to accept a case on appeal there must be a significant legal or Constitutional question that must be decid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cision of the Supreme Court can’t be appeal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power of the Supreme Court to review any federal or state law to see if it is in agreement with the Constitut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 Supreme Court finds a law to be unconstitutional it has the power to nullify the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nciple of judicial review was established in 1803 with the Supreme Court case of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Marbury v. Madis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gisla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legislative branch can get around a ruling by changing a law so that it no longer conflicts with the Constitu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the legislative branch can initiate the amendment process which would change the Constitution and U.S.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6:26:23Z</dcterms:created>
  <dc:creator>Sys Admin</dc:creator>
  <dc:description/>
  <dc:language>en-US</dc:language>
  <cp:lastModifiedBy>SysAdmin</cp:lastModifiedBy>
  <dcterms:modified xsi:type="dcterms:W3CDTF">2011-10-06T17:05:19Z</dcterms:modified>
  <cp:revision>36</cp:revision>
  <dc:subject/>
  <dc:title>The United States Supreme Court</dc:title>
</cp:coreProperties>
</file>